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t 03 spring00 </a:t>
            </a:r>
            <a:fld id="{03D58AE6-4E5A-42E1-B03C-7998D6FB73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s Morning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0" name="Content Placeholder 4" descr="three.jpg"/>
          <p:cNvPicPr/>
          <p:nvPr/>
        </p:nvPicPr>
        <p:blipFill>
          <a:blip r:embed="rId1"/>
          <a:srcRect l="0" t="3093" r="0" b="3093"/>
          <a:stretch/>
        </p:blipFill>
        <p:spPr>
          <a:xfrm>
            <a:off x="457200" y="114300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e Mangler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ey used to generate 16 per-round 48-bit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put 32 bits broken into 8 4-bit quantiti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expanded to 6 bits by including adjacent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xo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 w/ corresponding chunk from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input to an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-box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w/ output 4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What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 I</a:t>
            </a: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 Complicated?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initial and final permut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be for security (reduction argu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these specific s-box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ret design process =&gt; suspicion and mistrust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Public Key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plit into public and private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key used to en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sh this key wid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 key used to de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ep this key a sec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SA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rithm for computing public/private key pa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problems involved in factoring large pr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n n bit message P, ciphertext = (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, plaintext = (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 w/ by encrypting w/ private key, verify by decrypting w/ public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ther Public Key Algorithm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liptic 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a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aps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F2BF3E2D-DB31-431A-9F24-FD227AE778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Requirements for Authentication Syst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ur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vesdropper out of lu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li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ally important for centralized sche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paren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should not be aware of authentication (besides passwor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cal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3D2814F4-A004-4F35-A550-8F52649663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0280" y="1362240"/>
            <a:ext cx="8083440" cy="50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dentify the parties that wish to communicat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a session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andom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only for one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uthentication based on Shared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party already shares a privat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hanged via an out of band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llenge-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a random str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ponse is the encryption of the random string with the shared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6DBF1749-D72E-4F88-8C2B-B5B971C4D2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Example </a:t>
            </a:r>
            <a:br>
              <a:rPr sz="3600"/>
            </a:b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(symmetric)</a:t>
            </a:r>
            <a:endParaRPr b="0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575080" y="580536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685800" y="1752480"/>
          <a:ext cx="7315200" cy="384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315200" cy="38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ED4A5AFB-FE8E-4A44-B46B-A533E21BB3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ly requires three messag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ut it is subject to a 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n in the middle attack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567160" y="390060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Object 5"/>
          <p:cNvGraphicFramePr/>
          <p:nvPr/>
        </p:nvGraphicFramePr>
        <p:xfrm>
          <a:off x="2209680" y="990720"/>
          <a:ext cx="5340600" cy="29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990720"/>
                    <a:ext cx="5340600" cy="29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45284BCF-F254-4739-9F91-378EA675C2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ing the 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can get B to respond to is own challen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opens a second session with B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sues 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session 1 challenge back to B in session 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2490840" y="611028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Object 5"/>
          <p:cNvGraphicFramePr/>
          <p:nvPr/>
        </p:nvGraphicFramePr>
        <p:xfrm>
          <a:off x="1219320" y="2895480"/>
          <a:ext cx="7010280" cy="31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895480"/>
                    <a:ext cx="7010280" cy="31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3BA7ECC6-E570-4174-B932-503145279F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using Public Key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90640" y="1142640"/>
            <a:ext cx="736272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sume each party knows the othe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 public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6108840" y="1689120"/>
            <a:ext cx="43164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2755800" y="1689120"/>
            <a:ext cx="43200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3276720" y="190512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7"/>
          <p:cNvSpPr/>
          <p:nvPr/>
        </p:nvSpPr>
        <p:spPr>
          <a:xfrm>
            <a:off x="3276720" y="228600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8"/>
          <p:cNvSpPr/>
          <p:nvPr/>
        </p:nvSpPr>
        <p:spPr>
          <a:xfrm>
            <a:off x="3276720" y="266688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3807000" y="1522440"/>
            <a:ext cx="9806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3818880" y="1979640"/>
            <a:ext cx="13647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3805560" y="2360520"/>
            <a:ext cx="7261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838080" y="29718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15000"/>
          </a:bodyPr>
          <a:p>
            <a:pPr marL="51120" indent="-51120">
              <a:lnSpc>
                <a:spcPct val="10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Arial"/>
              </a:rPr>
              <a:t>How To learn others Public K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how do we trust the public key serv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 public key for the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to have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lock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send half the message (odd bits)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s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possible to spoof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1"/>
          <p:cNvSpPr/>
          <p:nvPr/>
        </p:nvSpPr>
        <p:spPr>
          <a:xfrm>
            <a:off x="2750760" y="198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14"/>
          <p:cNvSpPr/>
          <p:nvPr/>
        </p:nvSpPr>
        <p:spPr>
          <a:xfrm>
            <a:off x="6140880" y="1981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A89A3E9C-2F3B-4A2A-9D61-945E7BBB2D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iffie-Helma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lows two A and B to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quickly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agree on a shared key through public msgs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edates RSA, and no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ryption, signatures,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and Bob publicly agree on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(512-bit) pr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ller number, not prime, a few minor restric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hooses random 512-bit number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Bob chooses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Local S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y exchange 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oth x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are the same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bSa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aSb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5499720" y="6400800"/>
            <a:ext cx="3630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(x mod p)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 = x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</a:rPr>
              <a:t> - C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Important things to know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-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key, public algorith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rivacy, no signing, just integ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vate key (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key known to both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ent for priv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good for sig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 (a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 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cy, signing (authenticate author of mess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only use for small chunks of data (usually to encrypt other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E044F030-E57D-4BD0-B426-D2FB901FFA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91960" y="1130040"/>
            <a:ext cx="8483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rute force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dy know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, g, 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e because exponentiating fast relative to logarithm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be able to take 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quickly to get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ut this too har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– proof through the Fundamental Tenet of Cryptograph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o one’s been able to do it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85E671B8-AEB7-41C4-9D6C-F6CB239965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ending Encrypted msg w/o Active Msging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veryone registers public key &lt;p,g,T&gt;, where T=g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mod p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shed in NY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 Alice to send encrypted msg to Bob, she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cks random number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ompute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rypts msg with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encrypted msg, plu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B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ater, Bob finds messa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(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giving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647F3497-B5FE-485C-AAA8-D0FE9AA371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ashes and Message Digests (quick intro)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 (message digest) is a one-way func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order to be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ryptographically secur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input given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another input w/ same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ever, may be lots of inputs that map to one output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/ 1000-bit msg and 128-bit hash: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872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sgs map to each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 big hash to prevent finding two msg w/ same hash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hash of m bits, need to search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m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n average (BIRTHD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m=64, this is only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 we use 128-bit has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alk about book example of generating many mess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e, we still need to search 2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6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2 msgs to find input of a particular output. Why do we care about matching msg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D969B8CC-96E1-479D-A219-2E71BBBC82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irthday probl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in a room before even chance that two have the same birthday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ith one pair, probability is (364/365) that no match. F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pairs,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364/365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0.5, 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lo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364/365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.5) = 252.6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for 252 pairs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re are n(n-1)/2 pairs of inputs, so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-n)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.5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- .5n –253 = 0                    (root of 506.25 is 22.5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=23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eck: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== 23*22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49" name="Group 5"/>
          <p:cNvGrpSpPr/>
          <p:nvPr/>
        </p:nvGrpSpPr>
        <p:grpSpPr>
          <a:xfrm>
            <a:off x="1295280" y="6045120"/>
            <a:ext cx="2159280" cy="736560"/>
            <a:chOff x="1295280" y="6045120"/>
            <a:chExt cx="2159280" cy="736560"/>
          </a:xfrm>
        </p:grpSpPr>
        <p:pic>
          <p:nvPicPr>
            <p:cNvPr id="50" name="Picture 2" descr=""/>
            <p:cNvPicPr/>
            <p:nvPr/>
          </p:nvPicPr>
          <p:blipFill>
            <a:blip r:embed="rId1"/>
            <a:stretch/>
          </p:blipFill>
          <p:spPr>
            <a:xfrm>
              <a:off x="1295280" y="6102000"/>
              <a:ext cx="55872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4" descr=""/>
            <p:cNvPicPr/>
            <p:nvPr/>
          </p:nvPicPr>
          <p:blipFill>
            <a:blip r:embed="rId2"/>
            <a:stretch/>
          </p:blipFill>
          <p:spPr>
            <a:xfrm>
              <a:off x="1854000" y="6045120"/>
              <a:ext cx="1600560" cy="73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47A5FBA0-3D48-45F9-A527-DD2F95D79C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ngs to do with a hash: 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3921840" y="106668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"/>
          <p:cNvGrpSpPr/>
          <p:nvPr/>
        </p:nvGrpSpPr>
        <p:grpSpPr>
          <a:xfrm>
            <a:off x="1735200" y="1295280"/>
            <a:ext cx="5199120" cy="1940040"/>
            <a:chOff x="1735200" y="1295280"/>
            <a:chExt cx="5199120" cy="1940040"/>
          </a:xfrm>
        </p:grpSpPr>
        <p:sp>
          <p:nvSpPr>
            <p:cNvPr id="56" name="Line 3"/>
            <p:cNvSpPr/>
            <p:nvPr/>
          </p:nvSpPr>
          <p:spPr>
            <a:xfrm>
              <a:off x="2435040" y="2181240"/>
              <a:ext cx="3932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4"/>
            <p:cNvSpPr/>
            <p:nvPr/>
          </p:nvSpPr>
          <p:spPr>
            <a:xfrm>
              <a:off x="2371680" y="2138400"/>
              <a:ext cx="152280" cy="8244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5"/>
            <p:cNvSpPr/>
            <p:nvPr/>
          </p:nvSpPr>
          <p:spPr>
            <a:xfrm flipH="1">
              <a:off x="2432160" y="218124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6"/>
            <p:cNvSpPr/>
            <p:nvPr/>
          </p:nvSpPr>
          <p:spPr>
            <a:xfrm flipH="1">
              <a:off x="2283840" y="148896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7"/>
            <p:cNvSpPr/>
            <p:nvPr/>
          </p:nvSpPr>
          <p:spPr>
            <a:xfrm>
              <a:off x="6148800" y="14475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6159600" y="148896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9"/>
            <p:cNvSpPr/>
            <p:nvPr/>
          </p:nvSpPr>
          <p:spPr>
            <a:xfrm flipH="1">
              <a:off x="2283840" y="294192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10"/>
            <p:cNvSpPr/>
            <p:nvPr/>
          </p:nvSpPr>
          <p:spPr>
            <a:xfrm>
              <a:off x="6148800" y="29019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>
              <a:off x="6159600" y="294192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2"/>
            <p:cNvSpPr/>
            <p:nvPr/>
          </p:nvSpPr>
          <p:spPr>
            <a:xfrm>
              <a:off x="1735200" y="1295280"/>
              <a:ext cx="61884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13"/>
            <p:cNvSpPr/>
            <p:nvPr/>
          </p:nvSpPr>
          <p:spPr>
            <a:xfrm rot="16200000">
              <a:off x="1708200" y="199260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4"/>
            <p:cNvSpPr/>
            <p:nvPr/>
          </p:nvSpPr>
          <p:spPr>
            <a:xfrm>
              <a:off x="6318360" y="1295280"/>
              <a:ext cx="61596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5"/>
            <p:cNvSpPr/>
            <p:nvPr/>
          </p:nvSpPr>
          <p:spPr>
            <a:xfrm rot="16200000">
              <a:off x="6327000" y="201564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17"/>
            <p:cNvSpPr/>
            <p:nvPr/>
          </p:nvSpPr>
          <p:spPr>
            <a:xfrm>
              <a:off x="3463200" y="1711080"/>
              <a:ext cx="142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18"/>
            <p:cNvSpPr/>
            <p:nvPr/>
          </p:nvSpPr>
          <p:spPr>
            <a:xfrm>
              <a:off x="3626640" y="2473200"/>
              <a:ext cx="1069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609480" y="3927600"/>
            <a:ext cx="5199120" cy="2167920"/>
            <a:chOff x="609480" y="3927600"/>
            <a:chExt cx="5199120" cy="2167920"/>
          </a:xfrm>
        </p:grpSpPr>
        <p:sp>
          <p:nvSpPr>
            <p:cNvPr id="72" name="Line 20"/>
            <p:cNvSpPr/>
            <p:nvPr/>
          </p:nvSpPr>
          <p:spPr>
            <a:xfrm>
              <a:off x="1309680" y="5041800"/>
              <a:ext cx="393192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21"/>
            <p:cNvSpPr/>
            <p:nvPr/>
          </p:nvSpPr>
          <p:spPr>
            <a:xfrm>
              <a:off x="1245960" y="4998960"/>
              <a:ext cx="152280" cy="8208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22"/>
            <p:cNvSpPr/>
            <p:nvPr/>
          </p:nvSpPr>
          <p:spPr>
            <a:xfrm flipH="1">
              <a:off x="1306080" y="5041800"/>
              <a:ext cx="8100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23"/>
            <p:cNvSpPr/>
            <p:nvPr/>
          </p:nvSpPr>
          <p:spPr>
            <a:xfrm flipH="1">
              <a:off x="1158840" y="43495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24"/>
            <p:cNvSpPr/>
            <p:nvPr/>
          </p:nvSpPr>
          <p:spPr>
            <a:xfrm>
              <a:off x="5022720" y="430848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25"/>
            <p:cNvSpPr/>
            <p:nvPr/>
          </p:nvSpPr>
          <p:spPr>
            <a:xfrm>
              <a:off x="5033880" y="43495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26"/>
            <p:cNvSpPr/>
            <p:nvPr/>
          </p:nvSpPr>
          <p:spPr>
            <a:xfrm flipH="1">
              <a:off x="1158840" y="58021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7"/>
            <p:cNvSpPr/>
            <p:nvPr/>
          </p:nvSpPr>
          <p:spPr>
            <a:xfrm>
              <a:off x="5022720" y="576252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28"/>
            <p:cNvSpPr/>
            <p:nvPr/>
          </p:nvSpPr>
          <p:spPr>
            <a:xfrm>
              <a:off x="5033880" y="58021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29"/>
            <p:cNvSpPr/>
            <p:nvPr/>
          </p:nvSpPr>
          <p:spPr>
            <a:xfrm>
              <a:off x="609480" y="4155840"/>
              <a:ext cx="61920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30"/>
            <p:cNvSpPr/>
            <p:nvPr/>
          </p:nvSpPr>
          <p:spPr>
            <a:xfrm rot="16200000">
              <a:off x="582480" y="485316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31"/>
            <p:cNvSpPr/>
            <p:nvPr/>
          </p:nvSpPr>
          <p:spPr>
            <a:xfrm>
              <a:off x="5192640" y="4155840"/>
              <a:ext cx="61596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32"/>
            <p:cNvSpPr/>
            <p:nvPr/>
          </p:nvSpPr>
          <p:spPr>
            <a:xfrm rot="16200000">
              <a:off x="5200920" y="487620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33"/>
            <p:cNvSpPr/>
            <p:nvPr/>
          </p:nvSpPr>
          <p:spPr>
            <a:xfrm>
              <a:off x="2796120" y="392760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34"/>
            <p:cNvSpPr/>
            <p:nvPr/>
          </p:nvSpPr>
          <p:spPr>
            <a:xfrm>
              <a:off x="2338200" y="4572000"/>
              <a:ext cx="1974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35"/>
            <p:cNvSpPr/>
            <p:nvPr/>
          </p:nvSpPr>
          <p:spPr>
            <a:xfrm>
              <a:off x="2501640" y="5333760"/>
              <a:ext cx="162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Text Box 36"/>
          <p:cNvSpPr/>
          <p:nvPr/>
        </p:nvSpPr>
        <p:spPr>
          <a:xfrm>
            <a:off x="6248520" y="5029200"/>
            <a:ext cx="28954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Looks kind of like secret-key crypto, but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no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reversible =&gt; ca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use for privac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onventional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eneric block encryp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parties have the sam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 64 bits of input to 64 bits of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lock size consider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too short =&gt; insecure (try all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 too short =&gt; insecure (remember each pair of in and out that we can get our hands on- implies we eventually get plaintext,- and construct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/Key too long =&gt; inconven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4 bits – above table would hav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 64 bits = ~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 of 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messages handled later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ust be random mapping, a single bit flip on input should totally change output (effect of bits spreads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lock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606680" y="25146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314800" y="25192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022560" y="25239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3730680" y="25290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4438800" y="25336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5146920" y="25383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5854680" y="254304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6562800" y="25480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3"/>
          <p:cNvSpPr/>
          <p:nvPr/>
        </p:nvSpPr>
        <p:spPr>
          <a:xfrm>
            <a:off x="4114800" y="1752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AutoShape 14"/>
          <p:cNvCxnSpPr>
            <a:endCxn id="100" idx="0"/>
          </p:cNvCxnSpPr>
          <p:nvPr/>
        </p:nvCxnSpPr>
        <p:spPr>
          <a:xfrm>
            <a:off x="4266720" y="1218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AutoShape 15"/>
          <p:cNvCxnSpPr>
            <a:stCxn id="100" idx="2"/>
            <a:endCxn id="92" idx="0"/>
          </p:cNvCxnSpPr>
          <p:nvPr/>
        </p:nvCxnSpPr>
        <p:spPr>
          <a:xfrm flipH="1">
            <a:off x="1855080" y="1904760"/>
            <a:ext cx="225972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AutoShape 16"/>
          <p:cNvCxnSpPr>
            <a:stCxn id="100" idx="3"/>
            <a:endCxn id="93" idx="0"/>
          </p:cNvCxnSpPr>
          <p:nvPr/>
        </p:nvCxnSpPr>
        <p:spPr>
          <a:xfrm flipH="1">
            <a:off x="2563200" y="2013120"/>
            <a:ext cx="1595880" cy="50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AutoShape 17"/>
          <p:cNvCxnSpPr>
            <a:stCxn id="100" idx="3"/>
            <a:endCxn id="94" idx="0"/>
          </p:cNvCxnSpPr>
          <p:nvPr/>
        </p:nvCxnSpPr>
        <p:spPr>
          <a:xfrm flipH="1">
            <a:off x="3270960" y="2012760"/>
            <a:ext cx="888120" cy="511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AutoShape 18"/>
          <p:cNvCxnSpPr>
            <a:stCxn id="100" idx="4"/>
            <a:endCxn id="95" idx="0"/>
          </p:cNvCxnSpPr>
          <p:nvPr/>
        </p:nvCxnSpPr>
        <p:spPr>
          <a:xfrm flipH="1">
            <a:off x="3979440" y="2057400"/>
            <a:ext cx="28800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Text Box 19"/>
          <p:cNvSpPr/>
          <p:nvPr/>
        </p:nvSpPr>
        <p:spPr>
          <a:xfrm>
            <a:off x="4115160" y="1295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24393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259200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330948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3918960" y="2133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4954320" y="1905120"/>
            <a:ext cx="5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27"/>
          <p:cNvGrpSpPr/>
          <p:nvPr/>
        </p:nvGrpSpPr>
        <p:grpSpPr>
          <a:xfrm>
            <a:off x="1523880" y="3276720"/>
            <a:ext cx="5943600" cy="838080"/>
            <a:chOff x="1523880" y="3276720"/>
            <a:chExt cx="5943600" cy="838080"/>
          </a:xfrm>
        </p:grpSpPr>
        <p:sp>
          <p:nvSpPr>
            <p:cNvPr id="113" name="Oval 25"/>
            <p:cNvSpPr/>
            <p:nvPr/>
          </p:nvSpPr>
          <p:spPr>
            <a:xfrm>
              <a:off x="1523880" y="3276720"/>
              <a:ext cx="594360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26"/>
            <p:cNvSpPr/>
            <p:nvPr/>
          </p:nvSpPr>
          <p:spPr>
            <a:xfrm>
              <a:off x="3349080" y="3505320"/>
              <a:ext cx="22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ermute all 64 b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Freeform 31"/>
          <p:cNvSpPr/>
          <p:nvPr/>
        </p:nvSpPr>
        <p:spPr>
          <a:xfrm>
            <a:off x="4495680" y="1219320"/>
            <a:ext cx="4686480" cy="4368600"/>
          </a:xfrm>
          <a:custGeom>
            <a:avLst/>
            <a:gdLst/>
            <a:ahLst/>
            <a:rect l="l" t="t" r="r" b="b"/>
            <a:pathLst>
              <a:path w="2952" h="2752">
                <a:moveTo>
                  <a:pt x="0" y="2016"/>
                </a:moveTo>
                <a:cubicBezTo>
                  <a:pt x="812" y="2384"/>
                  <a:pt x="1624" y="2752"/>
                  <a:pt x="2064" y="2496"/>
                </a:cubicBezTo>
                <a:cubicBezTo>
                  <a:pt x="2504" y="2240"/>
                  <a:pt x="2952" y="896"/>
                  <a:pt x="2640" y="480"/>
                </a:cubicBezTo>
                <a:cubicBezTo>
                  <a:pt x="2328" y="64"/>
                  <a:pt x="600" y="80"/>
                  <a:pt x="19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5486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anging a single bit of input only affects 8 bits of output after first round, but potentially all after two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29920" y="1289160"/>
            <a:ext cx="7939080" cy="109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lock cipher: uses 56 bit keys, 64 bits of data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vate-key (assymmetric)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encryption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eated by IBM, secret process, probably created to be broken by NSA and made to be inefficient to solve in software (too late, already broken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754440" y="2747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10"/>
          <p:cNvGrpSpPr/>
          <p:nvPr/>
        </p:nvGrpSpPr>
        <p:grpSpPr>
          <a:xfrm>
            <a:off x="3467160" y="3352680"/>
            <a:ext cx="1904760" cy="457200"/>
            <a:chOff x="3467160" y="3352680"/>
            <a:chExt cx="1904760" cy="457200"/>
          </a:xfrm>
        </p:grpSpPr>
        <p:sp>
          <p:nvSpPr>
            <p:cNvPr id="121" name="Text Box 8"/>
            <p:cNvSpPr/>
            <p:nvPr/>
          </p:nvSpPr>
          <p:spPr>
            <a:xfrm>
              <a:off x="3601440" y="339732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Oval 9"/>
            <p:cNvSpPr/>
            <p:nvPr/>
          </p:nvSpPr>
          <p:spPr>
            <a:xfrm>
              <a:off x="3467160" y="335268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22"/>
          <p:cNvGrpSpPr/>
          <p:nvPr/>
        </p:nvGrpSpPr>
        <p:grpSpPr>
          <a:xfrm>
            <a:off x="3467160" y="4038480"/>
            <a:ext cx="1905120" cy="457200"/>
            <a:chOff x="3467160" y="4038480"/>
            <a:chExt cx="1905120" cy="457200"/>
          </a:xfrm>
        </p:grpSpPr>
        <p:sp>
          <p:nvSpPr>
            <p:cNvPr id="124" name="Text Box 12"/>
            <p:cNvSpPr/>
            <p:nvPr/>
          </p:nvSpPr>
          <p:spPr>
            <a:xfrm>
              <a:off x="3748320" y="4083120"/>
              <a:ext cx="134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ounds 1-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Oval 13"/>
            <p:cNvSpPr/>
            <p:nvPr/>
          </p:nvSpPr>
          <p:spPr>
            <a:xfrm>
              <a:off x="3467160" y="4038480"/>
              <a:ext cx="19051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Group 15"/>
          <p:cNvGrpSpPr/>
          <p:nvPr/>
        </p:nvGrpSpPr>
        <p:grpSpPr>
          <a:xfrm>
            <a:off x="3467160" y="4800600"/>
            <a:ext cx="1904760" cy="457200"/>
            <a:chOff x="3467160" y="4800600"/>
            <a:chExt cx="1904760" cy="457200"/>
          </a:xfrm>
        </p:grpSpPr>
        <p:sp>
          <p:nvSpPr>
            <p:cNvPr id="127" name="Text Box 16"/>
            <p:cNvSpPr/>
            <p:nvPr/>
          </p:nvSpPr>
          <p:spPr>
            <a:xfrm>
              <a:off x="3602520" y="4845240"/>
              <a:ext cx="130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sw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3467160" y="48006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18"/>
          <p:cNvGrpSpPr/>
          <p:nvPr/>
        </p:nvGrpSpPr>
        <p:grpSpPr>
          <a:xfrm>
            <a:off x="3467160" y="5486400"/>
            <a:ext cx="1904760" cy="457200"/>
            <a:chOff x="3467160" y="5486400"/>
            <a:chExt cx="1904760" cy="457200"/>
          </a:xfrm>
        </p:grpSpPr>
        <p:sp>
          <p:nvSpPr>
            <p:cNvPr id="130" name="Text Box 19"/>
            <p:cNvSpPr/>
            <p:nvPr/>
          </p:nvSpPr>
          <p:spPr>
            <a:xfrm>
              <a:off x="3601440" y="553104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20"/>
            <p:cNvSpPr/>
            <p:nvPr/>
          </p:nvSpPr>
          <p:spPr>
            <a:xfrm>
              <a:off x="3467160" y="54864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Text Box 21"/>
          <p:cNvSpPr/>
          <p:nvPr/>
        </p:nvSpPr>
        <p:spPr>
          <a:xfrm>
            <a:off x="3754440" y="6176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One round of 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575160" y="1523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512160" y="6019920"/>
            <a:ext cx="1456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454840" y="2514600"/>
            <a:ext cx="103572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4871160" y="2514600"/>
            <a:ext cx="10479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4800240" y="5262480"/>
            <a:ext cx="119124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383920" y="4346640"/>
            <a:ext cx="117900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AutoShape 10"/>
          <p:cNvCxnSpPr>
            <a:stCxn id="137" idx="1"/>
            <a:endCxn id="139" idx="3"/>
          </p:cNvCxnSpPr>
          <p:nvPr/>
        </p:nvCxnSpPr>
        <p:spPr>
          <a:xfrm flipH="1">
            <a:off x="3583800" y="2703240"/>
            <a:ext cx="127548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1" name="Group 13"/>
          <p:cNvGrpSpPr/>
          <p:nvPr/>
        </p:nvGrpSpPr>
        <p:grpSpPr>
          <a:xfrm>
            <a:off x="4786200" y="3124080"/>
            <a:ext cx="1219320" cy="685800"/>
            <a:chOff x="4786200" y="3124080"/>
            <a:chExt cx="1219320" cy="685800"/>
          </a:xfrm>
        </p:grpSpPr>
        <p:sp>
          <p:nvSpPr>
            <p:cNvPr id="142" name="Oval 11"/>
            <p:cNvSpPr/>
            <p:nvPr/>
          </p:nvSpPr>
          <p:spPr>
            <a:xfrm>
              <a:off x="4786200" y="3124080"/>
              <a:ext cx="1219320" cy="68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12"/>
            <p:cNvSpPr/>
            <p:nvPr/>
          </p:nvSpPr>
          <p:spPr>
            <a:xfrm>
              <a:off x="4939560" y="327672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ngl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17"/>
          <p:cNvGrpSpPr/>
          <p:nvPr/>
        </p:nvGrpSpPr>
        <p:grpSpPr>
          <a:xfrm>
            <a:off x="5051520" y="4267080"/>
            <a:ext cx="688320" cy="533520"/>
            <a:chOff x="5051520" y="4267080"/>
            <a:chExt cx="688320" cy="533520"/>
          </a:xfrm>
        </p:grpSpPr>
        <p:sp>
          <p:nvSpPr>
            <p:cNvPr id="145" name="Oval 15"/>
            <p:cNvSpPr/>
            <p:nvPr/>
          </p:nvSpPr>
          <p:spPr>
            <a:xfrm>
              <a:off x="5052600" y="4267080"/>
              <a:ext cx="6858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16"/>
            <p:cNvSpPr/>
            <p:nvPr/>
          </p:nvSpPr>
          <p:spPr>
            <a:xfrm>
              <a:off x="5051520" y="435132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7" name="AutoShape 19"/>
          <p:cNvCxnSpPr>
            <a:stCxn id="136" idx="3"/>
            <a:endCxn id="146" idx="1"/>
          </p:cNvCxnSpPr>
          <p:nvPr/>
        </p:nvCxnSpPr>
        <p:spPr>
          <a:xfrm>
            <a:off x="3501720" y="2703240"/>
            <a:ext cx="154836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Text Box 20"/>
          <p:cNvSpPr/>
          <p:nvPr/>
        </p:nvSpPr>
        <p:spPr>
          <a:xfrm>
            <a:off x="6708600" y="3278160"/>
            <a:ext cx="52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21"/>
          <p:cNvCxnSpPr>
            <a:endCxn id="142" idx="6"/>
          </p:cNvCxnSpPr>
          <p:nvPr/>
        </p:nvCxnSpPr>
        <p:spPr>
          <a:xfrm flipH="1">
            <a:off x="6004800" y="3429000"/>
            <a:ext cx="63900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AutoShape 22"/>
          <p:cNvCxnSpPr>
            <a:stCxn id="137" idx="2"/>
            <a:endCxn id="142" idx="0"/>
          </p:cNvCxnSpPr>
          <p:nvPr/>
        </p:nvCxnSpPr>
        <p:spPr>
          <a:xfrm>
            <a:off x="5395680" y="2890800"/>
            <a:ext cx="1080" cy="23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24"/>
          <p:cNvCxnSpPr>
            <a:stCxn id="142" idx="4"/>
            <a:endCxn id="145" idx="0"/>
          </p:cNvCxnSpPr>
          <p:nvPr/>
        </p:nvCxnSpPr>
        <p:spPr>
          <a:xfrm>
            <a:off x="5395680" y="38098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25"/>
          <p:cNvCxnSpPr>
            <a:stCxn id="145" idx="4"/>
            <a:endCxn id="138" idx="0"/>
          </p:cNvCxnSpPr>
          <p:nvPr/>
        </p:nvCxnSpPr>
        <p:spPr>
          <a:xfrm>
            <a:off x="5395680" y="4800240"/>
            <a:ext cx="1080" cy="462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26"/>
          <p:cNvCxnSpPr>
            <a:stCxn id="139" idx="2"/>
            <a:endCxn id="135" idx="0"/>
          </p:cNvCxnSpPr>
          <p:nvPr/>
        </p:nvCxnSpPr>
        <p:spPr>
          <a:xfrm>
            <a:off x="2972880" y="4722480"/>
            <a:ext cx="1267560" cy="129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AutoShape 27"/>
          <p:cNvCxnSpPr>
            <a:stCxn id="138" idx="2"/>
            <a:endCxn id="135" idx="0"/>
          </p:cNvCxnSpPr>
          <p:nvPr/>
        </p:nvCxnSpPr>
        <p:spPr>
          <a:xfrm flipH="1">
            <a:off x="4239360" y="5638320"/>
            <a:ext cx="11566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AutoShape 28"/>
          <p:cNvCxnSpPr>
            <a:stCxn id="134" idx="2"/>
            <a:endCxn id="136" idx="0"/>
          </p:cNvCxnSpPr>
          <p:nvPr/>
        </p:nvCxnSpPr>
        <p:spPr>
          <a:xfrm flipH="1">
            <a:off x="2972520" y="1899720"/>
            <a:ext cx="126756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AutoShape 29"/>
          <p:cNvCxnSpPr>
            <a:stCxn id="134" idx="2"/>
            <a:endCxn id="137" idx="0"/>
          </p:cNvCxnSpPr>
          <p:nvPr/>
        </p:nvCxnSpPr>
        <p:spPr>
          <a:xfrm>
            <a:off x="4239720" y="1899720"/>
            <a:ext cx="115668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3T02:05:24Z</dcterms:created>
  <dc:creator>Peter Keleher</dc:creator>
  <dc:description/>
  <dc:language>en-US</dc:language>
  <cp:lastModifiedBy>Peter J. Keleher</cp:lastModifiedBy>
  <dcterms:modified xsi:type="dcterms:W3CDTF">2023-10-03T20:03:51Z</dcterms:modified>
  <cp:revision>46</cp:revision>
  <dc:subject/>
  <dc:title>Classical encryption cont.</dc:title>
</cp:coreProperties>
</file>